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6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6625-1C50-4755-AD0E-C4B460D0C24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67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7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8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C630-A1DE-4E03-A784-489C1C78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iconspedia.com/community/User/" TargetMode="External"/><Relationship Id="rId2" Type="http://schemas.openxmlformats.org/officeDocument/2006/relationships/hyperlink" Target="http://igloo.crystalxp.net/babasse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0AEE-96AC-48F1-A483-B94396A3D40E}" type="datetime3">
              <a:rPr b="0" lang="en-US" sz="12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5619-84A6-4F4C-9477-604DB5928CA3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eople find sound useful and some do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00D5-D528-405C-9DF5-41890268271F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endlessriver.wordpress.com/2011/04/18/comfortable-with-uncertaint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mobilephonesradiation.co.uk/articles/mobile-phone-cancer-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mairedubhtx.wordpress.com/2011/04/24/nuclear-powe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C33D-2924-4C33-9CEF-295EE37523A2}" type="datetime3">
              <a:rPr b="0" lang="en-US" sz="12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9A6B-9582-4BCA-9796-178B54152191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iconspedia.com/icon/plane-146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bas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http://igloo.crystalxp.net/bab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afterfiftyliving.com/yourmoney/personalfinance/2_years_after_market_low__the_little_guy_is_back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poker-tomorrow.com/poker/bet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B1E-5D69-4E29-A162-CEFE5C35638B}" type="datetime3">
              <a:rPr b="0" lang="en-US" sz="12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A74-6B6B-4BBF-8D39-D80DA75CB275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bett2010.com/category/horse-bett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F6F-32CE-4F5C-BD03-F2FED9DB2875}" type="datetime3">
              <a:rPr b="0" lang="en-US" sz="12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54F-1725-46BA-9D40-8FD579060778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73E4-72C4-4B01-92EB-A1C697A57978}" type="datetime3">
              <a:rPr b="0" lang="en-US" sz="12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0326-AB7C-4776-8065-E546A9B2F299}" type="slidenum">
              <a:rPr b="0" lang="en-US" sz="1200" spc="-1" strike="noStrike">
                <a:solidFill>
                  <a:srgbClr val="aca09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9072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4216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9072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4216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682560"/>
            <a:ext cx="57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9072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4216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28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9072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4216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640" y="682560"/>
            <a:ext cx="57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79072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42160" y="215856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928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79072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042160" y="4038480"/>
            <a:ext cx="21438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682560"/>
            <a:ext cx="57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1000" y="403848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51000" y="2158560"/>
            <a:ext cx="32490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4038480"/>
            <a:ext cx="665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6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476760"/>
            <a:ext cx="1800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14D6-42CE-4F3B-AD68-DA2DE1D4B95E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8"/>
          <a:stretch/>
        </p:blipFill>
        <p:spPr>
          <a:xfrm>
            <a:off x="7016760" y="466560"/>
            <a:ext cx="1494000" cy="889200"/>
          </a:xfrm>
          <a:prstGeom prst="rect">
            <a:avLst/>
          </a:prstGeom>
          <a:ln w="0">
            <a:noFill/>
          </a:ln>
        </p:spPr>
      </p:pic>
      <p:sp>
        <p:nvSpPr>
          <p:cNvPr id="4" name="Line 9"/>
          <p:cNvSpPr/>
          <p:nvPr/>
        </p:nvSpPr>
        <p:spPr>
          <a:xfrm>
            <a:off x="539640" y="1511280"/>
            <a:ext cx="7989840" cy="0"/>
          </a:xfrm>
          <a:prstGeom prst="line">
            <a:avLst/>
          </a:prstGeom>
          <a:ln w="9360">
            <a:solidFill>
              <a:srgbClr val="aca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876560" y="6476760"/>
            <a:ext cx="35989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6"/>
          <p:cNvSpPr/>
          <p:nvPr/>
        </p:nvSpPr>
        <p:spPr>
          <a:xfrm>
            <a:off x="539640" y="1511280"/>
            <a:ext cx="7989840" cy="0"/>
          </a:xfrm>
          <a:prstGeom prst="line">
            <a:avLst/>
          </a:prstGeom>
          <a:ln w="9360">
            <a:solidFill>
              <a:srgbClr val="aca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7016760" y="466560"/>
            <a:ext cx="1494000" cy="88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6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39280" y="1042560"/>
            <a:ext cx="35989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aca09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584-62A3-4AC0-A9C8-7A10997943AD}" type="datetime3">
              <a:rPr b="0" lang="en-US" sz="2400" spc="-1" strike="noStrike">
                <a:solidFill>
                  <a:srgbClr val="aca095"/>
                </a:solidFill>
                <a:latin typeface="Arial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7016760" y="466560"/>
            <a:ext cx="1494000" cy="889200"/>
          </a:xfrm>
          <a:prstGeom prst="rect">
            <a:avLst/>
          </a:prstGeom>
          <a:ln w="0">
            <a:noFill/>
          </a:ln>
        </p:spPr>
      </p:pic>
      <p:sp>
        <p:nvSpPr>
          <p:cNvPr id="84" name="Line 9"/>
          <p:cNvSpPr/>
          <p:nvPr/>
        </p:nvSpPr>
        <p:spPr>
          <a:xfrm>
            <a:off x="539640" y="1511280"/>
            <a:ext cx="7989840" cy="0"/>
          </a:xfrm>
          <a:prstGeom prst="line">
            <a:avLst/>
          </a:prstGeom>
          <a:ln w="9360">
            <a:solidFill>
              <a:srgbClr val="aca0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67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9280" y="2158560"/>
            <a:ext cx="665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4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5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6"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539280" y="6476760"/>
            <a:ext cx="1800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09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4876560" y="6476760"/>
            <a:ext cx="35989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1.png"/><Relationship Id="rId3" Type="http://schemas.openxmlformats.org/officeDocument/2006/relationships/hyperlink" Target="http://kbark.wordpress.com/2006/12/17/where-am-i/" TargetMode="Externa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1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989840" cy="15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67"/>
                </a:solidFill>
                <a:latin typeface="Arial"/>
              </a:rPr>
              <a:t>Using Sound to Represent Uncertainty in UK Climate Predictions 2009 Data:</a:t>
            </a:r>
            <a:br>
              <a:rPr sz="3200"/>
            </a:br>
            <a:r>
              <a:rPr b="1" lang="en-GB" sz="3200" spc="-1" strike="noStrike">
                <a:solidFill>
                  <a:srgbClr val="004c67"/>
                </a:solidFill>
                <a:latin typeface="Arial"/>
              </a:rPr>
              <a:t>Communication of Uncertainty</a:t>
            </a:r>
            <a:endParaRPr b="1" lang="en-US" sz="32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26520" y="4446360"/>
            <a:ext cx="79902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ca095"/>
                </a:solidFill>
                <a:latin typeface="Arial"/>
              </a:rPr>
              <a:t>Nick Bearman</a:t>
            </a:r>
            <a:endParaRPr b="0" lang="en-US" sz="3200" spc="-1" strike="noStrike">
              <a:solidFill>
                <a:srgbClr val="004c67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c67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ca095"/>
                </a:solidFill>
                <a:latin typeface="Arial"/>
              </a:rPr>
              <a:t>Phil Jones</a:t>
            </a:r>
            <a:endParaRPr b="0" lang="en-US" sz="2800" spc="-1" strike="noStrike">
              <a:solidFill>
                <a:srgbClr val="004c67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ca095"/>
                </a:solidFill>
                <a:latin typeface="Arial"/>
              </a:rPr>
              <a:t>Andrew Lovett</a:t>
            </a:r>
            <a:endParaRPr b="0" lang="en-US" sz="28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012000" y="3716280"/>
            <a:ext cx="2906640" cy="1871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26"/>
          <p:cNvGrpSpPr/>
          <p:nvPr/>
        </p:nvGrpSpPr>
        <p:grpSpPr>
          <a:xfrm>
            <a:off x="684360" y="3429000"/>
            <a:ext cx="1871640" cy="2521080"/>
            <a:chOff x="684360" y="3429000"/>
            <a:chExt cx="1871640" cy="2521080"/>
          </a:xfrm>
        </p:grpSpPr>
        <p:pic>
          <p:nvPicPr>
            <p:cNvPr id="136" name="Picture 9" descr=""/>
            <p:cNvPicPr/>
            <p:nvPr/>
          </p:nvPicPr>
          <p:blipFill>
            <a:blip r:embed="rId2"/>
            <a:stretch/>
          </p:blipFill>
          <p:spPr>
            <a:xfrm>
              <a:off x="684360" y="3507840"/>
              <a:ext cx="1785600" cy="244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2"/>
            <p:cNvSpPr/>
            <p:nvPr/>
          </p:nvSpPr>
          <p:spPr>
            <a:xfrm>
              <a:off x="2045880" y="3429000"/>
              <a:ext cx="510120" cy="137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endParaRPr b="0" lang="en-US" sz="2400" spc="-1" strike="noStrike">
                <a:solidFill>
                  <a:srgbClr val="aca095"/>
                </a:solidFill>
                <a:latin typeface="Times New Roman"/>
              </a:endParaRPr>
            </a:p>
          </p:txBody>
        </p:sp>
      </p:grpSp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250920" y="316080"/>
            <a:ext cx="26510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WindowsMediaPlayer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aca095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2"/>
          <a:srcRect l="1022" t="10187" r="1860" b="1026"/>
          <a:stretch/>
        </p:blipFill>
        <p:spPr>
          <a:xfrm>
            <a:off x="-900000" y="0"/>
            <a:ext cx="10056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WindowsMediaPlayer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aca095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Results – How does sound help represent uncertainty?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9280" y="191628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Participants (n = 71) from UEA, OS &amp; UKCIP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Usefulness of sound varied widely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Some found it very helpful, some couldn’t stand i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34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Knowledge of data set important </a:t>
            </a:r>
            <a:r>
              <a:rPr b="0" lang="en-GB" sz="1400" spc="-1" strike="noStrike">
                <a:solidFill>
                  <a:srgbClr val="004c67"/>
                </a:solidFill>
                <a:latin typeface="Arial"/>
              </a:rPr>
              <a:t>(p &lt; 0.001)</a:t>
            </a:r>
            <a:endParaRPr b="0" lang="en-US" sz="14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Using sound to reinforce vision increases scores </a:t>
            </a:r>
            <a:r>
              <a:rPr b="0" lang="en-GB" sz="1400" spc="-1" strike="noStrike">
                <a:solidFill>
                  <a:srgbClr val="004c67"/>
                </a:solidFill>
                <a:latin typeface="Arial"/>
              </a:rPr>
              <a:t>(p = 0.005) 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for mos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Choosing the correct sonification method is crucial for</a:t>
            </a:r>
            <a:br>
              <a:rPr sz="2000"/>
            </a:b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     understanding the data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Only general findings, but there is potential to extend this sonification 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to show more data (e.g. the distribution of the probabilities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or for public engagemen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pic>
        <p:nvPicPr>
          <p:cNvPr id="237" name="Picture 5" descr="C:\Users\umz08muu\AppData\Local\Temp\_AZTMP0_\oscm0304.gif"/>
          <p:cNvPicPr/>
          <p:nvPr/>
        </p:nvPicPr>
        <p:blipFill>
          <a:blip r:embed="rId14"/>
          <a:stretch/>
        </p:blipFill>
        <p:spPr>
          <a:xfrm>
            <a:off x="6443640" y="1773360"/>
            <a:ext cx="2057400" cy="5032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3"/>
          <p:cNvGrpSpPr/>
          <p:nvPr/>
        </p:nvGrpSpPr>
        <p:grpSpPr>
          <a:xfrm>
            <a:off x="971640" y="0"/>
            <a:ext cx="7065720" cy="6858000"/>
            <a:chOff x="971640" y="0"/>
            <a:chExt cx="7065720" cy="6858000"/>
          </a:xfrm>
        </p:grpSpPr>
        <p:pic>
          <p:nvPicPr>
            <p:cNvPr id="239" name="Picture 5" descr=""/>
            <p:cNvPicPr/>
            <p:nvPr/>
          </p:nvPicPr>
          <p:blipFill>
            <a:blip r:embed="rId15"/>
            <a:srcRect l="35550" t="0" r="0" b="0"/>
            <a:stretch/>
          </p:blipFill>
          <p:spPr>
            <a:xfrm>
              <a:off x="1354680" y="0"/>
              <a:ext cx="668268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" descr=""/>
            <p:cNvPicPr/>
            <p:nvPr/>
          </p:nvPicPr>
          <p:blipFill>
            <a:blip r:embed="rId16"/>
            <a:stretch/>
          </p:blipFill>
          <p:spPr>
            <a:xfrm>
              <a:off x="971640" y="0"/>
              <a:ext cx="1204560" cy="63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7" descr=""/>
            <p:cNvPicPr/>
            <p:nvPr/>
          </p:nvPicPr>
          <p:blipFill>
            <a:blip r:embed="rId17"/>
            <a:stretch/>
          </p:blipFill>
          <p:spPr>
            <a:xfrm>
              <a:off x="972720" y="5925600"/>
              <a:ext cx="735480" cy="932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43" name="Picture 5" descr="C:\Users\umz08muu\AppData\Local\Temp\_AZTMP0_\oscm0304.gif"/>
          <p:cNvPicPr/>
          <p:nvPr/>
        </p:nvPicPr>
        <p:blipFill>
          <a:blip r:embed="rId1"/>
          <a:stretch/>
        </p:blipFill>
        <p:spPr>
          <a:xfrm>
            <a:off x="4714920" y="2133720"/>
            <a:ext cx="3168720" cy="7761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Users\umz08muu\Documents\Conferences, Posters &amp; Papers\2011 GISRUK\Presentation\Logos\GIF RGB 150 Pixels with Border.gif"/>
          <p:cNvPicPr/>
          <p:nvPr/>
        </p:nvPicPr>
        <p:blipFill>
          <a:blip r:embed="rId2"/>
          <a:stretch/>
        </p:blipFill>
        <p:spPr>
          <a:xfrm>
            <a:off x="5651640" y="3573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C:\Users\umz08muu\Documents\Conferences, Posters &amp; Papers\2011 GISRUK\Presentation\Logos\nerclogo200.gif"/>
          <p:cNvPicPr/>
          <p:nvPr/>
        </p:nvPicPr>
        <p:blipFill>
          <a:blip r:embed="rId3"/>
          <a:stretch/>
        </p:blipFill>
        <p:spPr>
          <a:xfrm>
            <a:off x="1690560" y="3789360"/>
            <a:ext cx="342900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4"/>
          <a:stretch/>
        </p:blipFill>
        <p:spPr>
          <a:xfrm>
            <a:off x="2122560" y="2060640"/>
            <a:ext cx="1493640" cy="888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539640" y="5732280"/>
            <a:ext cx="8064720" cy="6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266760" algn="ctr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anks to participant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Visual Saturation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sp>
        <p:nvSpPr>
          <p:cNvPr id="250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2411280" y="1628640"/>
            <a:ext cx="4686480" cy="4860000"/>
            <a:chOff x="2411280" y="1628640"/>
            <a:chExt cx="4686480" cy="4860000"/>
          </a:xfrm>
        </p:grpSpPr>
        <p:grpSp>
          <p:nvGrpSpPr>
            <p:cNvPr id="252" name="Group 4"/>
            <p:cNvGrpSpPr/>
            <p:nvPr/>
          </p:nvGrpSpPr>
          <p:grpSpPr>
            <a:xfrm>
              <a:off x="2411280" y="2037960"/>
              <a:ext cx="4686480" cy="4450680"/>
              <a:chOff x="2411280" y="2037960"/>
              <a:chExt cx="4686480" cy="4450680"/>
            </a:xfrm>
          </p:grpSpPr>
          <p:pic>
            <p:nvPicPr>
              <p:cNvPr id="25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11280" y="2037960"/>
                <a:ext cx="4686480" cy="417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Text Box 6"/>
              <p:cNvSpPr/>
              <p:nvPr/>
            </p:nvSpPr>
            <p:spPr>
              <a:xfrm>
                <a:off x="3889440" y="6273720"/>
                <a:ext cx="154008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04640"/>
                    <a:tab algn="l" pos="812880"/>
                    <a:tab algn="l" pos="1220760"/>
                    <a:tab algn="l" pos="1627200"/>
                    <a:tab algn="l" pos="2035080"/>
                    <a:tab algn="l" pos="2443320"/>
                    <a:tab algn="l" pos="2851200"/>
                    <a:tab algn="l" pos="3257640"/>
                    <a:tab algn="l" pos="3665520"/>
                    <a:tab algn="l" pos="4073400"/>
                    <a:tab algn="l" pos="4479840"/>
                    <a:tab algn="l" pos="4888080"/>
                    <a:tab algn="l" pos="5295960"/>
                    <a:tab algn="l" pos="5703840"/>
                    <a:tab algn="l" pos="6110280"/>
                    <a:tab algn="l" pos="6518160"/>
                    <a:tab algn="l" pos="6926400"/>
                    <a:tab algn="l" pos="7332840"/>
                    <a:tab algn="l" pos="7740720"/>
                    <a:tab algn="l" pos="81486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 u="sng">
                    <a:solidFill>
                      <a:srgbClr val="ffa023"/>
                    </a:solidFill>
                    <a:uFillTx/>
                    <a:latin typeface="Times New Roman"/>
                    <a:hlinkClick r:id="rId3"/>
                  </a:rPr>
                  <a:t>http://kbark.wordpress.com/2006/12/17/where-am-i/</a:t>
                </a:r>
                <a:r>
                  <a:rPr b="0" lang="en-GB" sz="700" spc="-1" strike="noStrike">
                    <a:solidFill>
                      <a:srgbClr val="000000"/>
                    </a:solidFill>
                    <a:latin typeface="Times New Roman"/>
                  </a:rPr>
                  <a:t> (18/03/2009)</a:t>
                </a:r>
                <a:endParaRPr b="0" lang="en-US" sz="7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</p:grpSp>
        <p:sp>
          <p:nvSpPr>
            <p:cNvPr id="255" name="Text Box 7"/>
            <p:cNvSpPr/>
            <p:nvPr/>
          </p:nvSpPr>
          <p:spPr>
            <a:xfrm>
              <a:off x="3513960" y="1628640"/>
              <a:ext cx="25063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04640"/>
                  <a:tab algn="l" pos="812880"/>
                  <a:tab algn="l" pos="1220760"/>
                  <a:tab algn="l" pos="1627200"/>
                  <a:tab algn="l" pos="2035080"/>
                  <a:tab algn="l" pos="2443320"/>
                  <a:tab algn="l" pos="2851200"/>
                  <a:tab algn="l" pos="3257640"/>
                  <a:tab algn="l" pos="3665520"/>
                  <a:tab algn="l" pos="4073400"/>
                  <a:tab algn="l" pos="4479840"/>
                  <a:tab algn="l" pos="4888080"/>
                  <a:tab algn="l" pos="5295960"/>
                  <a:tab algn="l" pos="5703840"/>
                  <a:tab algn="l" pos="6110280"/>
                  <a:tab algn="l" pos="6518160"/>
                  <a:tab algn="l" pos="6926400"/>
                  <a:tab algn="l" pos="7332840"/>
                  <a:tab algn="l" pos="7740720"/>
                  <a:tab algn="l" pos="81486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Finnish Town</a:t>
              </a:r>
              <a:endParaRPr b="0" lang="en-US" sz="2400" spc="-1" strike="noStrike">
                <a:solidFill>
                  <a:srgbClr val="aca095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8422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133360"/>
            <a:ext cx="784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Compared users results to the correct result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Great variation within result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Cluster C had a very visual learning style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34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Awareness of data set is important </a:t>
            </a:r>
            <a:r>
              <a:rPr b="0" lang="en-GB" sz="1400" spc="-1" strike="noStrike">
                <a:solidFill>
                  <a:srgbClr val="004c67"/>
                </a:solidFill>
                <a:latin typeface="Arial"/>
              </a:rPr>
              <a:t>(p &lt; 0.001)</a:t>
            </a:r>
            <a:endParaRPr b="0" lang="en-US" sz="14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Using sound to reinforce vision increases scores </a:t>
            </a:r>
            <a:r>
              <a:rPr b="0" lang="en-GB" sz="1400" spc="-1" strike="noStrike">
                <a:solidFill>
                  <a:srgbClr val="004c67"/>
                </a:solidFill>
                <a:latin typeface="Arial"/>
              </a:rPr>
              <a:t>(p = 0.005) 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for mos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Using sound for different variable helps some but not other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Learning Style – Visual learners more effective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67400" indent="2347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Not significant trends: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35160" indent="469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Subject knowledge 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35160" indent="4694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Repeated use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3"/>
          <a:stretch/>
        </p:blipFill>
        <p:spPr>
          <a:xfrm>
            <a:off x="4427640" y="0"/>
            <a:ext cx="4716360" cy="311616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3"/>
          <p:cNvGrpSpPr/>
          <p:nvPr/>
        </p:nvGrpSpPr>
        <p:grpSpPr>
          <a:xfrm>
            <a:off x="684360" y="0"/>
            <a:ext cx="7065720" cy="6858000"/>
            <a:chOff x="684360" y="0"/>
            <a:chExt cx="7065720" cy="6858000"/>
          </a:xfrm>
        </p:grpSpPr>
        <p:pic>
          <p:nvPicPr>
            <p:cNvPr id="260" name="Picture 5" descr=""/>
            <p:cNvPicPr/>
            <p:nvPr/>
          </p:nvPicPr>
          <p:blipFill>
            <a:blip r:embed="rId14"/>
            <a:srcRect l="35550" t="0" r="0" b="0"/>
            <a:stretch/>
          </p:blipFill>
          <p:spPr>
            <a:xfrm>
              <a:off x="1067400" y="0"/>
              <a:ext cx="668268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" descr=""/>
            <p:cNvPicPr/>
            <p:nvPr/>
          </p:nvPicPr>
          <p:blipFill>
            <a:blip r:embed="rId15"/>
            <a:stretch/>
          </p:blipFill>
          <p:spPr>
            <a:xfrm>
              <a:off x="684360" y="0"/>
              <a:ext cx="1204560" cy="632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" descr=""/>
            <p:cNvPicPr/>
            <p:nvPr/>
          </p:nvPicPr>
          <p:blipFill>
            <a:blip r:embed="rId16"/>
            <a:stretch/>
          </p:blipFill>
          <p:spPr>
            <a:xfrm>
              <a:off x="685440" y="5925600"/>
              <a:ext cx="735480" cy="93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Picture 4" descr=""/>
          <p:cNvPicPr/>
          <p:nvPr/>
        </p:nvPicPr>
        <p:blipFill>
          <a:blip r:embed="rId17"/>
          <a:stretch/>
        </p:blipFill>
        <p:spPr>
          <a:xfrm>
            <a:off x="0" y="0"/>
            <a:ext cx="8947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465280" cy="18493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Uncertainty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9640" y="1699920"/>
            <a:ext cx="56880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All data have some uncertainty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but it is often not represented</a:t>
            </a:r>
            <a:br>
              <a:rPr sz="2000"/>
            </a:b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or used in a particularly helpful way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People* generally are not comfortable with </a:t>
            </a:r>
            <a:br>
              <a:rPr sz="2000"/>
            </a:b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    the concept of uncertainty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Mobile phones &amp; cancer / 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carcinogenicity 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Nuclear power stations &amp; earthquake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9"/>
          <a:stretch/>
        </p:blipFill>
        <p:spPr>
          <a:xfrm>
            <a:off x="6372360" y="1628640"/>
            <a:ext cx="2522520" cy="180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10"/>
          <a:stretch/>
        </p:blipFill>
        <p:spPr>
          <a:xfrm>
            <a:off x="2843280" y="4653000"/>
            <a:ext cx="24494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272200" y="4005360"/>
            <a:ext cx="3652560" cy="2684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539280" y="1844640"/>
            <a:ext cx="66582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It is something people deal with in their everyday lives: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Travelling (car / train / air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Smoking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Betting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Pensions / investment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whether they are aware of it or no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So everyone can understand it….. in some situation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1"/>
          <a:stretch/>
        </p:blipFill>
        <p:spPr>
          <a:xfrm>
            <a:off x="5076720" y="2508120"/>
            <a:ext cx="1754280" cy="1425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Uncertainty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pic>
        <p:nvPicPr>
          <p:cNvPr id="150" name="Picture 3" descr="C:\Users\NICK&amp;L~1\AppData\Local\Temp\Plane_256.png"/>
          <p:cNvPicPr/>
          <p:nvPr/>
        </p:nvPicPr>
        <p:blipFill>
          <a:blip r:embed="rId12"/>
          <a:stretch/>
        </p:blipFill>
        <p:spPr>
          <a:xfrm>
            <a:off x="6875640" y="191628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Uncertainty &amp; UK Climate Predictions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1773360"/>
            <a:ext cx="66582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ere is uncertainty in future climate prediction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CIRG91, CCIRG96, UKCIP98, UKCIP02, UKCP09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e first four only provided a single prediction value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61800" indent="506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(for specific time, place, emissions scenario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UKCP09 provides a range of value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80720" indent="25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594000" y="4508640"/>
            <a:ext cx="5982840" cy="2206080"/>
            <a:chOff x="594000" y="4508640"/>
            <a:chExt cx="5982840" cy="2206080"/>
          </a:xfrm>
        </p:grpSpPr>
        <p:grpSp>
          <p:nvGrpSpPr>
            <p:cNvPr id="155" name="Group 4"/>
            <p:cNvGrpSpPr/>
            <p:nvPr/>
          </p:nvGrpSpPr>
          <p:grpSpPr>
            <a:xfrm>
              <a:off x="594000" y="4508640"/>
              <a:ext cx="5982840" cy="2206080"/>
              <a:chOff x="594000" y="4508640"/>
              <a:chExt cx="5982840" cy="2206080"/>
            </a:xfrm>
          </p:grpSpPr>
          <p:sp>
            <p:nvSpPr>
              <p:cNvPr id="156" name="Straight Connector 5"/>
              <p:cNvSpPr/>
              <p:nvPr/>
            </p:nvSpPr>
            <p:spPr>
              <a:xfrm>
                <a:off x="1786320" y="4508640"/>
                <a:ext cx="0" cy="169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57" name="Straight Connector 6"/>
              <p:cNvSpPr/>
              <p:nvPr/>
            </p:nvSpPr>
            <p:spPr>
              <a:xfrm>
                <a:off x="1645560" y="6061680"/>
                <a:ext cx="49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2208960" y="4570560"/>
                <a:ext cx="4015440" cy="1507320"/>
              </a:xfrm>
              <a:custGeom>
                <a:avLst/>
                <a:gdLst>
                  <a:gd name="textAreaLeft" fmla="*/ 0 w 4015440"/>
                  <a:gd name="textAreaRight" fmla="*/ 4015800 w 4015440"/>
                  <a:gd name="textAreaTop" fmla="*/ 0 h 1507320"/>
                  <a:gd name="textAreaBottom" fmla="*/ 1507680 h 1507320"/>
                </a:gdLst>
                <a:ahLst/>
                <a:rect l="textAreaLeft" t="textAreaTop" r="textAreaRight" b="textAreaBottom"/>
                <a:pathLst>
                  <a:path w="2448272" h="1537554">
                    <a:moveTo>
                      <a:pt x="0" y="1537554"/>
                    </a:moveTo>
                    <a:cubicBezTo>
                      <a:pt x="672306" y="1494392"/>
                      <a:pt x="854393" y="999718"/>
                      <a:pt x="1073804" y="656733"/>
                    </a:cubicBezTo>
                    <a:cubicBezTo>
                      <a:pt x="1363452" y="222065"/>
                      <a:pt x="2141391" y="0"/>
                      <a:pt x="2448272" y="806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59" name="Oval 8"/>
              <p:cNvSpPr/>
              <p:nvPr/>
            </p:nvSpPr>
            <p:spPr>
              <a:xfrm>
                <a:off x="4111200" y="5002560"/>
                <a:ext cx="140760" cy="14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0" name="TextBox 20"/>
              <p:cNvSpPr/>
              <p:nvPr/>
            </p:nvSpPr>
            <p:spPr>
              <a:xfrm>
                <a:off x="3158280" y="6274080"/>
                <a:ext cx="1636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emperature Increase</a:t>
                </a:r>
                <a:endParaRPr b="0" lang="en-US" sz="20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1" name="TextBox 21"/>
              <p:cNvSpPr/>
              <p:nvPr/>
            </p:nvSpPr>
            <p:spPr>
              <a:xfrm>
                <a:off x="594000" y="5002200"/>
                <a:ext cx="874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Probability</a:t>
                </a:r>
                <a:endParaRPr b="0" lang="en-US" sz="20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34"/>
            <p:cNvGrpSpPr/>
            <p:nvPr/>
          </p:nvGrpSpPr>
          <p:grpSpPr>
            <a:xfrm>
              <a:off x="2488680" y="4559040"/>
              <a:ext cx="3381120" cy="1512000"/>
              <a:chOff x="2488680" y="4559040"/>
              <a:chExt cx="3381120" cy="1512000"/>
            </a:xfrm>
          </p:grpSpPr>
          <p:sp>
            <p:nvSpPr>
              <p:cNvPr id="163" name="Oval 12"/>
              <p:cNvSpPr/>
              <p:nvPr/>
            </p:nvSpPr>
            <p:spPr>
              <a:xfrm>
                <a:off x="3756600" y="519228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4" name="Oval 13"/>
              <p:cNvSpPr/>
              <p:nvPr/>
            </p:nvSpPr>
            <p:spPr>
              <a:xfrm>
                <a:off x="2488680" y="593388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5" name="Oval 14"/>
              <p:cNvSpPr/>
              <p:nvPr/>
            </p:nvSpPr>
            <p:spPr>
              <a:xfrm>
                <a:off x="4390560" y="483372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6" name="Oval 15"/>
              <p:cNvSpPr/>
              <p:nvPr/>
            </p:nvSpPr>
            <p:spPr>
              <a:xfrm>
                <a:off x="4883760" y="467064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7" name="Oval 16"/>
              <p:cNvSpPr/>
              <p:nvPr/>
            </p:nvSpPr>
            <p:spPr>
              <a:xfrm>
                <a:off x="5306400" y="460224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>
                <a:off x="5729040" y="455904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69" name="Oval 18"/>
              <p:cNvSpPr/>
              <p:nvPr/>
            </p:nvSpPr>
            <p:spPr>
              <a:xfrm>
                <a:off x="3503160" y="546336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70" name="Oval 19"/>
              <p:cNvSpPr/>
              <p:nvPr/>
            </p:nvSpPr>
            <p:spPr>
              <a:xfrm>
                <a:off x="3151440" y="572760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71" name="Oval 20"/>
              <p:cNvSpPr/>
              <p:nvPr/>
            </p:nvSpPr>
            <p:spPr>
              <a:xfrm>
                <a:off x="2827080" y="5883480"/>
                <a:ext cx="140760" cy="13716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Group 21"/>
          <p:cNvGrpSpPr/>
          <p:nvPr/>
        </p:nvGrpSpPr>
        <p:grpSpPr>
          <a:xfrm>
            <a:off x="1908000" y="5013360"/>
            <a:ext cx="4648320" cy="621720"/>
            <a:chOff x="1908000" y="5013360"/>
            <a:chExt cx="4648320" cy="621720"/>
          </a:xfrm>
        </p:grpSpPr>
        <p:sp>
          <p:nvSpPr>
            <p:cNvPr id="173" name="Straight Connector 22"/>
            <p:cNvSpPr/>
            <p:nvPr/>
          </p:nvSpPr>
          <p:spPr>
            <a:xfrm>
              <a:off x="1908000" y="507384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ca095"/>
                </a:solidFill>
                <a:latin typeface="Times New Roman"/>
              </a:endParaRPr>
            </a:p>
          </p:txBody>
        </p:sp>
        <p:sp>
          <p:nvSpPr>
            <p:cNvPr id="174" name="Oval 23"/>
            <p:cNvSpPr/>
            <p:nvPr/>
          </p:nvSpPr>
          <p:spPr>
            <a:xfrm>
              <a:off x="4197960" y="5013360"/>
              <a:ext cx="132480" cy="120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aca0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aca095"/>
                </a:solidFill>
                <a:latin typeface="Times New Roman"/>
              </a:endParaRPr>
            </a:p>
          </p:txBody>
        </p:sp>
        <p:sp>
          <p:nvSpPr>
            <p:cNvPr id="175" name="TextBox 25"/>
            <p:cNvSpPr/>
            <p:nvPr/>
          </p:nvSpPr>
          <p:spPr>
            <a:xfrm>
              <a:off x="3341880" y="5194440"/>
              <a:ext cx="163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emperature</a:t>
              </a:r>
              <a:r>
                <a:rPr b="0" lang="en-GB" sz="2000" spc="-1" strike="noStrike">
                  <a:solidFill>
                    <a:srgbClr val="aca095"/>
                  </a:solidFill>
                  <a:latin typeface="Arial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crease</a:t>
              </a:r>
              <a:endParaRPr b="0" lang="en-US" sz="2000" spc="-1" strike="noStrike">
                <a:solidFill>
                  <a:srgbClr val="aca095"/>
                </a:solidFill>
                <a:latin typeface="Times New Roman"/>
              </a:endParaRPr>
            </a:p>
          </p:txBody>
        </p:sp>
      </p:grpSp>
      <p:pic>
        <p:nvPicPr>
          <p:cNvPr id="176" name="Picture 4" descr=""/>
          <p:cNvPicPr/>
          <p:nvPr/>
        </p:nvPicPr>
        <p:blipFill>
          <a:blip r:embed="rId9"/>
          <a:stretch/>
        </p:blipFill>
        <p:spPr>
          <a:xfrm>
            <a:off x="7308720" y="5084640"/>
            <a:ext cx="1368720" cy="137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10"/>
          <a:stretch/>
        </p:blipFill>
        <p:spPr>
          <a:xfrm>
            <a:off x="7451640" y="1773360"/>
            <a:ext cx="1428840" cy="196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11"/>
          <a:stretch/>
        </p:blipFill>
        <p:spPr>
          <a:xfrm>
            <a:off x="6875640" y="2924280"/>
            <a:ext cx="14284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UKCP09 - Uncertainty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773000"/>
            <a:ext cx="7993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Uncertainty is usefu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But users have to change their workflow to make use of it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e users need to be able to understand the data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UKCIP have done a lot of training on this for users of UKCP09 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ey use the analogy of </a:t>
            </a:r>
            <a:br>
              <a:rPr sz="2000"/>
            </a:b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‘horse race betting’ to explain how </a:t>
            </a:r>
            <a:br>
              <a:rPr sz="2000"/>
            </a:b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the probabilities work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Which people are familiar with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90440" indent="26676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2700360" y="2637000"/>
            <a:ext cx="647640" cy="459720"/>
          </a:xfrm>
          <a:prstGeom prst="rect">
            <a:avLst/>
          </a:prstGeom>
          <a:noFill/>
          <a:ln w="9360">
            <a:solidFill>
              <a:srgbClr val="004c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e5a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cxnSp>
        <p:nvCxnSpPr>
          <p:cNvPr id="183" name="Straight Arrow Connector 8"/>
          <p:cNvCxnSpPr>
            <a:stCxn id="182" idx="3"/>
            <a:endCxn id="184" idx="4"/>
          </p:cNvCxnSpPr>
          <p:nvPr/>
        </p:nvCxnSpPr>
        <p:spPr>
          <a:xfrm flipV="1">
            <a:off x="3348000" y="2852280"/>
            <a:ext cx="1512000" cy="15120"/>
          </a:xfrm>
          <a:prstGeom prst="straightConnector1">
            <a:avLst/>
          </a:prstGeom>
          <a:ln w="9360">
            <a:solidFill>
              <a:srgbClr val="003e5a"/>
            </a:solidFill>
            <a:miter/>
            <a:tailEnd len="med" type="arrow" w="med"/>
          </a:ln>
        </p:spPr>
      </p:cxnSp>
      <p:sp>
        <p:nvSpPr>
          <p:cNvPr id="184" name="Snip Diagonal Corner Rectangle 9"/>
          <p:cNvSpPr/>
          <p:nvPr/>
        </p:nvSpPr>
        <p:spPr>
          <a:xfrm>
            <a:off x="4859280" y="2565360"/>
            <a:ext cx="2376720" cy="576360"/>
          </a:xfrm>
          <a:prstGeom prst="pie">
            <a:avLst/>
          </a:prstGeom>
          <a:noFill/>
          <a:ln w="9360">
            <a:solidFill>
              <a:srgbClr val="003e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e5a"/>
                </a:solidFill>
                <a:latin typeface="Arial"/>
              </a:rPr>
              <a:t>Existing Workflow</a:t>
            </a:r>
            <a:endParaRPr b="0" lang="en-US" sz="2000" spc="-1" strike="noStrike">
              <a:solidFill>
                <a:srgbClr val="aca095"/>
              </a:solidFill>
              <a:latin typeface="Times New Roman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1332000" y="2681280"/>
            <a:ext cx="3240000" cy="368280"/>
          </a:xfrm>
          <a:prstGeom prst="rect">
            <a:avLst/>
          </a:prstGeom>
          <a:noFill/>
          <a:ln w="9360">
            <a:solidFill>
              <a:srgbClr val="004c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e5a"/>
                </a:solidFill>
                <a:latin typeface="Arial"/>
              </a:rPr>
              <a:t>1.8, 2.0, 2.1, 2.1, 2.5, 2.6, 2.8</a:t>
            </a:r>
            <a:endParaRPr b="0" lang="en-US" sz="1800" spc="-1" strike="noStrike">
              <a:solidFill>
                <a:srgbClr val="aca095"/>
              </a:solidFill>
              <a:latin typeface="Times New Roman"/>
            </a:endParaRPr>
          </a:p>
        </p:txBody>
      </p:sp>
      <p:cxnSp>
        <p:nvCxnSpPr>
          <p:cNvPr id="186" name="Straight Arrow Connector 18"/>
          <p:cNvCxnSpPr>
            <a:stCxn id="185" idx="3"/>
            <a:endCxn id="184" idx="5"/>
          </p:cNvCxnSpPr>
          <p:nvPr/>
        </p:nvCxnSpPr>
        <p:spPr>
          <a:xfrm flipV="1">
            <a:off x="4572000" y="2852280"/>
            <a:ext cx="288000" cy="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87" name="Picture 2" descr=""/>
          <p:cNvPicPr/>
          <p:nvPr/>
        </p:nvPicPr>
        <p:blipFill>
          <a:blip r:embed="rId13"/>
          <a:stretch/>
        </p:blipFill>
        <p:spPr>
          <a:xfrm>
            <a:off x="5940360" y="4508640"/>
            <a:ext cx="231156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UKCP09 - Projections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915920"/>
            <a:ext cx="8064720" cy="38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UKCP09 data consists of projections of future climate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List of probabilities and value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Need to view the value (e.g. temperature) and the probability</a:t>
            </a:r>
            <a:br>
              <a:rPr sz="2000"/>
            </a:b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   distribution to fully understand how accurate the temperature </a:t>
            </a:r>
            <a:br>
              <a:rPr sz="2000"/>
            </a:b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   prediction i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Large amount of information to show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o calculate a range instead (90</a:t>
            </a:r>
            <a:r>
              <a:rPr b="0" lang="en-US" sz="2000" spc="-1" strike="noStrike" baseline="30000">
                <a:solidFill>
                  <a:srgbClr val="004c67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– 10</a:t>
            </a:r>
            <a:r>
              <a:rPr b="0" lang="en-US" sz="2000" spc="-1" strike="noStrike" baseline="30000">
                <a:solidFill>
                  <a:srgbClr val="004c67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percentile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3160" indent="242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an do this visually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46320" indent="485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but limits on what can be shown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grpSp>
        <p:nvGrpSpPr>
          <p:cNvPr id="191" name="Group 35"/>
          <p:cNvGrpSpPr/>
          <p:nvPr/>
        </p:nvGrpSpPr>
        <p:grpSpPr>
          <a:xfrm>
            <a:off x="4698360" y="2276640"/>
            <a:ext cx="3834360" cy="1413720"/>
            <a:chOff x="4698360" y="2276640"/>
            <a:chExt cx="3834360" cy="1413720"/>
          </a:xfrm>
        </p:grpSpPr>
        <p:grpSp>
          <p:nvGrpSpPr>
            <p:cNvPr id="192" name="Group 4"/>
            <p:cNvGrpSpPr/>
            <p:nvPr/>
          </p:nvGrpSpPr>
          <p:grpSpPr>
            <a:xfrm>
              <a:off x="4698360" y="2276640"/>
              <a:ext cx="3834360" cy="1413720"/>
              <a:chOff x="4698360" y="2276640"/>
              <a:chExt cx="3834360" cy="1413720"/>
            </a:xfrm>
          </p:grpSpPr>
          <p:sp>
            <p:nvSpPr>
              <p:cNvPr id="193" name="Straight Connector 5"/>
              <p:cNvSpPr/>
              <p:nvPr/>
            </p:nvSpPr>
            <p:spPr>
              <a:xfrm>
                <a:off x="5564880" y="2276640"/>
                <a:ext cx="0" cy="10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94" name="Straight Connector 6"/>
              <p:cNvSpPr/>
              <p:nvPr/>
            </p:nvSpPr>
            <p:spPr>
              <a:xfrm>
                <a:off x="5477400" y="3233520"/>
                <a:ext cx="30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95" name="Freeform 7"/>
              <p:cNvSpPr/>
              <p:nvPr/>
            </p:nvSpPr>
            <p:spPr>
              <a:xfrm>
                <a:off x="5826600" y="2314800"/>
                <a:ext cx="2487960" cy="928800"/>
              </a:xfrm>
              <a:custGeom>
                <a:avLst/>
                <a:gdLst>
                  <a:gd name="textAreaLeft" fmla="*/ 0 w 2487960"/>
                  <a:gd name="textAreaRight" fmla="*/ 2488320 w 248796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2448272" h="1537554">
                    <a:moveTo>
                      <a:pt x="0" y="1537554"/>
                    </a:moveTo>
                    <a:cubicBezTo>
                      <a:pt x="672306" y="1494392"/>
                      <a:pt x="854393" y="999718"/>
                      <a:pt x="1073804" y="656733"/>
                    </a:cubicBezTo>
                    <a:cubicBezTo>
                      <a:pt x="1363452" y="222065"/>
                      <a:pt x="2141391" y="0"/>
                      <a:pt x="2448272" y="806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7005240" y="2580840"/>
                <a:ext cx="87120" cy="86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6391080" y="3284640"/>
                <a:ext cx="1479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mperature Increase</a:t>
                </a:r>
                <a:endParaRPr b="0" lang="en-US" sz="18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198" name="TextBox 22"/>
              <p:cNvSpPr/>
              <p:nvPr/>
            </p:nvSpPr>
            <p:spPr>
              <a:xfrm>
                <a:off x="4698360" y="2581200"/>
                <a:ext cx="796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Probability</a:t>
                </a:r>
                <a:endParaRPr b="0" lang="en-US" sz="18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4"/>
            <p:cNvGrpSpPr/>
            <p:nvPr/>
          </p:nvGrpSpPr>
          <p:grpSpPr>
            <a:xfrm>
              <a:off x="6000120" y="2307600"/>
              <a:ext cx="2094840" cy="931680"/>
              <a:chOff x="6000120" y="2307600"/>
              <a:chExt cx="2094840" cy="931680"/>
            </a:xfrm>
          </p:grpSpPr>
          <p:sp>
            <p:nvSpPr>
              <p:cNvPr id="200" name="Oval 12"/>
              <p:cNvSpPr/>
              <p:nvPr/>
            </p:nvSpPr>
            <p:spPr>
              <a:xfrm>
                <a:off x="6785640" y="269748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1" name="Oval 13"/>
              <p:cNvSpPr/>
              <p:nvPr/>
            </p:nvSpPr>
            <p:spPr>
              <a:xfrm>
                <a:off x="6000120" y="315468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2" name="Oval 14"/>
              <p:cNvSpPr/>
              <p:nvPr/>
            </p:nvSpPr>
            <p:spPr>
              <a:xfrm>
                <a:off x="7178400" y="247680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3" name="Oval 15"/>
              <p:cNvSpPr/>
              <p:nvPr/>
            </p:nvSpPr>
            <p:spPr>
              <a:xfrm>
                <a:off x="7484040" y="237636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4" name="Oval 16"/>
              <p:cNvSpPr/>
              <p:nvPr/>
            </p:nvSpPr>
            <p:spPr>
              <a:xfrm>
                <a:off x="7745760" y="233424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5" name="Oval 17"/>
              <p:cNvSpPr/>
              <p:nvPr/>
            </p:nvSpPr>
            <p:spPr>
              <a:xfrm>
                <a:off x="8007840" y="230760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6" name="Oval 18"/>
              <p:cNvSpPr/>
              <p:nvPr/>
            </p:nvSpPr>
            <p:spPr>
              <a:xfrm>
                <a:off x="6628680" y="286488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7" name="Oval 19"/>
              <p:cNvSpPr/>
              <p:nvPr/>
            </p:nvSpPr>
            <p:spPr>
              <a:xfrm>
                <a:off x="6410880" y="302760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  <p:sp>
            <p:nvSpPr>
              <p:cNvPr id="208" name="Oval 20"/>
              <p:cNvSpPr/>
              <p:nvPr/>
            </p:nvSpPr>
            <p:spPr>
              <a:xfrm>
                <a:off x="6209640" y="3123720"/>
                <a:ext cx="87120" cy="84600"/>
              </a:xfrm>
              <a:prstGeom prst="ellipse">
                <a:avLst/>
              </a:prstGeom>
              <a:solidFill>
                <a:srgbClr val="00b8ff"/>
              </a:solidFill>
              <a:ln w="9360">
                <a:solidFill>
                  <a:srgbClr val="aca0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aca095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Rectangle 23"/>
          <p:cNvSpPr/>
          <p:nvPr/>
        </p:nvSpPr>
        <p:spPr>
          <a:xfrm>
            <a:off x="5580000" y="2421000"/>
            <a:ext cx="2737080" cy="647640"/>
          </a:xfrm>
          <a:prstGeom prst="rect">
            <a:avLst/>
          </a:prstGeom>
          <a:solidFill>
            <a:srgbClr val="ff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ca095"/>
              </a:solidFill>
              <a:latin typeface="Times New Roman"/>
            </a:endParaRPr>
          </a:p>
        </p:txBody>
      </p:sp>
      <p:cxnSp>
        <p:nvCxnSpPr>
          <p:cNvPr id="210" name="Straight Arrow Connector 25"/>
          <p:cNvCxnSpPr>
            <a:stCxn id="209" idx="0"/>
            <a:endCxn id="209" idx="2"/>
          </p:cNvCxnSpPr>
          <p:nvPr/>
        </p:nvCxnSpPr>
        <p:spPr>
          <a:xfrm>
            <a:off x="6946920" y="2420640"/>
            <a:ext cx="2160" cy="649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67"/>
                </a:solidFill>
                <a:latin typeface="Arial"/>
              </a:rPr>
              <a:t>Representing Uncertainty</a:t>
            </a: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9280" y="1773360"/>
            <a:ext cx="66582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Why sound?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53880" indent="496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Easy – most computers have sound card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53880" indent="496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Cheap – only need headphones / speakers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Played relevant sound as mouse moved over map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Asked users to highlight areas above specific threshold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Summer mean daily temperature for each cell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53880" indent="496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50</a:t>
            </a:r>
            <a:r>
              <a:rPr b="0" lang="en-US" sz="2000" spc="-1" strike="noStrike" baseline="30000">
                <a:solidFill>
                  <a:srgbClr val="004c67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percentile (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≈ 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mean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2" marL="353880" indent="496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Range (</a:t>
            </a:r>
            <a:r>
              <a:rPr b="0" lang="en-GB" sz="2000" spc="-1" strike="noStrike">
                <a:solidFill>
                  <a:srgbClr val="004c67"/>
                </a:solidFill>
                <a:latin typeface="Arial"/>
              </a:rPr>
              <a:t>≈ uncertainty</a:t>
            </a: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  <a:p>
            <a:pPr lvl="1" marL="176760" indent="2480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Used Google Maps interface</a:t>
            </a:r>
            <a:br>
              <a:rPr sz="2000"/>
            </a:br>
            <a:r>
              <a:rPr b="0" lang="en-US" sz="2000" spc="-1" strike="noStrike">
                <a:solidFill>
                  <a:srgbClr val="004c67"/>
                </a:solidFill>
                <a:latin typeface="Arial"/>
              </a:rPr>
              <a:t>     for the evaluation</a:t>
            </a:r>
            <a:endParaRPr b="0" lang="en-US" sz="2000" spc="-1" strike="noStrike">
              <a:solidFill>
                <a:srgbClr val="004c67"/>
              </a:solidFill>
              <a:latin typeface="Arial"/>
            </a:endParaRPr>
          </a:p>
        </p:txBody>
      </p:sp>
      <p:sp>
        <p:nvSpPr>
          <p:cNvPr id="213" name="Date Placeholder 3"/>
          <p:cNvSpPr/>
          <p:nvPr/>
        </p:nvSpPr>
        <p:spPr>
          <a:xfrm>
            <a:off x="539640" y="647712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095"/>
                </a:solidFill>
                <a:latin typeface="Arial"/>
              </a:rPr>
              <a:t>29 June 2011</a:t>
            </a:r>
            <a:endParaRPr b="0" lang="en-US" sz="1000" spc="-1" strike="noStrike">
              <a:solidFill>
                <a:srgbClr val="aca095"/>
              </a:solidFill>
              <a:latin typeface="Times New Roman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3"/>
          <a:stretch/>
        </p:blipFill>
        <p:spPr>
          <a:xfrm>
            <a:off x="7380360" y="3789360"/>
            <a:ext cx="1517400" cy="1909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14"/>
          <a:stretch/>
        </p:blipFill>
        <p:spPr>
          <a:xfrm>
            <a:off x="5580000" y="5805360"/>
            <a:ext cx="3095640" cy="723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"/>
          <p:cNvPicPr/>
          <p:nvPr/>
        </p:nvPicPr>
        <p:blipFill>
          <a:blip r:embed="rId15"/>
          <a:stretch/>
        </p:blipFill>
        <p:spPr>
          <a:xfrm>
            <a:off x="7380360" y="1773360"/>
            <a:ext cx="122400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19080" y="411120"/>
            <a:ext cx="91249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68256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6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9280" y="2158560"/>
            <a:ext cx="6658200" cy="3598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2"/>
          <a:srcRect l="0" t="29596" r="53051" b="29535"/>
          <a:stretch/>
        </p:blipFill>
        <p:spPr>
          <a:xfrm>
            <a:off x="-28440" y="0"/>
            <a:ext cx="972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0:28:04Z</dcterms:created>
  <dc:creator>Richard Coward</dc:creator>
  <dc:description/>
  <dc:language>en-US</dc:language>
  <cp:lastModifiedBy>Nick Bearman</cp:lastModifiedBy>
  <dcterms:modified xsi:type="dcterms:W3CDTF">2011-06-27T11:13:10Z</dcterms:modified>
  <cp:revision>160</cp:revision>
  <dc:subject/>
  <dc:title>PowerPoint Presentation</dc:title>
</cp:coreProperties>
</file>